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6B2-F608-4D1A-A8EA-B1170AB5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77E-7899-4855-9461-49764022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B17-A1C1-44A6-8966-F17E85E1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B9F-FB3B-4DA5-AF29-0C3377A0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8015-2514-4F46-8085-3A623587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7D51-79FF-49F5-AF9F-F5480B41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FAA4-503D-43D9-80CA-C263CE39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8F27-C809-4BC5-8D99-C2914588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7035-51BC-4DE3-AA94-AF7F0A25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7D92-BF50-4333-9ADD-2D3ECB74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634B-A804-4070-9780-0AD81A02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BF1-59A7-4E18-8DFD-EF85E230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EB6D-DD16-4F38-8ED8-8189764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AB24-DA93-4DAB-9644-701B7CD8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A0AB-86A4-4107-B315-538D1F56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43A1-E0BB-4168-92B4-F9A92784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6623-0C92-448D-A2D3-50419455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9A713-A732-4B85-B41D-E5B05C58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4BBC8-B76A-4AC7-927C-C0E3FEFC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167AB-8B75-4291-BB67-B94AA816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DAAAB-C302-48B6-90FB-1FA04647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E0BAF-26EF-4314-BB3F-104EAEC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AC6-8A93-4646-8DD4-E5DA96D8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BABA2-71A5-4B0A-9246-939E67B2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D7F0D-9C2B-4507-9D95-8415F63A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79166-3351-42C6-8081-EE380376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39603-B4C2-4D70-B916-9459176D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CD927-D3E6-4CAA-AA59-ADF499A3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A2EF9-2CC6-48A7-BA10-1C2D6AD3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A47C2-A104-49D7-A72A-578138C4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1696-C0F9-4871-81E9-DEAECFF0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7D32-5895-4215-98C6-A59D8412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BEFD4-76B5-407A-BA85-F1743C7A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F27-B1B4-4AEE-8E62-E7814433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6874-B2F0-4292-8D35-44653A57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9561-ABEC-4AB5-9059-6B499BAD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F2DEF-B0F7-4538-B8C0-554ECC36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36ED-511F-4149-B4EB-C5D5A69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23CA-32A0-48D6-996B-A90F2FB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23D3-4F87-4E89-A75B-D4BE7B0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D175-F8CC-4767-B1F7-A41D8647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5900-93A4-479A-94C6-3674E10A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B15B4-DC3E-4DC7-8F25-A71C9EFC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989F1-6243-4E37-9A26-095E32D9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459-ADE1-4BDF-88C5-4DED921B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3A686-E2F8-489F-BB50-9988256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ABB7D-3A23-42DE-B446-5EF15E30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03F0B-802A-47C0-ACBD-DDBA80DD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35297-8F80-48CA-9CAA-A8F51E44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C9121-D294-4BCE-B651-4AA070BE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1B293-5125-4C35-A452-9E7C856A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7FAFF-F010-4654-8151-355A952B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6DC54-764D-42BD-AFB1-22BE4CB4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AFE6E-2D0F-48CF-BD1A-DDC870C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BC301-74F0-4F0F-8559-2BD92A40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1BE-DD67-47A9-A91C-9CE1D0F3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B63EB-5FCA-4C85-9293-A18D7187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9982E-86C2-4325-8C74-9861EAF1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AED1D-AB7D-4688-86AD-6454588F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2D55B-2BC1-4941-AE15-19A89704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343D3-1E76-4F44-AA3D-789B74EE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B67C9-A927-4DA2-BD05-2F0A0BDC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D671C-420B-4F3D-83D3-1B35D6CD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7AD2E-859C-4FBC-8D04-8131DAAE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DB971-C904-42A3-833B-6042578F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1816E-DE82-4AC7-BBEF-8BB7A4B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E9C-B214-486B-BA1C-062B2A3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18448-E2DE-4A2E-A557-11714D30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7CD6D-872B-46BC-82F4-9779C0A4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FDE40-FC57-485C-B1C8-F289525C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8569B-C009-440A-B907-705139AB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37A41-B155-4944-8F24-0CD2E6F9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EA184-4D86-4BBC-9758-286C9C84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74B77-58A9-49DD-87BD-D90FC257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D04F2-8F98-4E18-ACF4-483B97B7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FFFF2-6301-49DB-9B22-8B704194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08AC4-FD6C-4BEF-B4A0-0AA5398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9F4-D28C-404B-B343-6D2C93F9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0CEAA-1700-4CD1-85A1-4EC970CE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E59B6-AC50-4A21-B31E-FCFD170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89E73-8D8A-4E24-BBCF-BF86C26D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A18A4-9E94-4717-845A-5F7FC248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64659-C058-41D7-BDA1-D772E123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39E-E9D9-44B7-8CD5-BBB1A954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72EA-D7DA-40C5-84A4-EAE1E6CD03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DA76-00EF-445C-A36E-C051D6C6D0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8FD8-117E-476C-9032-E912237FA9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ED0B-9A40-4B4D-8DED-180CE92263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5561-BDF7-4E5B-84DE-4649A13ACD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FDA2-5147-4FFB-9BD1-E7071C8983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5170-B501-45AE-A471-D48D0C78A8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22&amp;02&amp;13A%20Darwin%20and%20the%20Galapagos%20Islands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22&amp;06&amp;13C%20Reconstructing%20Forelimbs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videos/GalapagosIslands-V.html" TargetMode="External"/><Relationship Id="rId2" Type="http://schemas.openxmlformats.org/officeDocument/2006/relationships/hyperlink" Target="http://media.pearsoncmg.com/bc/bc_campbell_concepts_5/media/assets/videos/MarineIguana-V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videos/GrandCanyon-V.html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1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How Populations Evol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5600" indent="-3351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ile on the voyage of the HMS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Beag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in the 1830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rles Darwin observed similarities between living and fossil organisms and the diversity of life on the Galápagos Island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13A Darwin and the Galapagos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9" name="Group 55"/>
          <p:cNvGrpSpPr/>
          <p:nvPr/>
        </p:nvGrpSpPr>
        <p:grpSpPr>
          <a:xfrm>
            <a:off x="882720" y="254160"/>
            <a:ext cx="7753320" cy="6240240"/>
            <a:chOff x="882720" y="254160"/>
            <a:chExt cx="7753320" cy="6240240"/>
          </a:xfrm>
        </p:grpSpPr>
        <p:sp>
          <p:nvSpPr>
            <p:cNvPr id="380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e8637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Picture 6" descr="_x001a_13_01bBeagleVoyage_CNL.jpg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1824120" y="3263760"/>
              <a:ext cx="646596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7"/>
            <p:cNvSpPr/>
            <p:nvPr/>
          </p:nvSpPr>
          <p:spPr>
            <a:xfrm>
              <a:off x="3534120" y="3822840"/>
              <a:ext cx="4611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5196240" y="3970440"/>
              <a:ext cx="42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4709160" y="3862440"/>
              <a:ext cx="397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eat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rita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5227920" y="46134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5981760" y="484200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qu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148800" y="397044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6812640" y="5229360"/>
              <a:ext cx="478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4"/>
            <p:cNvSpPr/>
            <p:nvPr/>
          </p:nvSpPr>
          <p:spPr>
            <a:xfrm>
              <a:off x="6892920" y="5688000"/>
              <a:ext cx="51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sman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7137360" y="561024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7285320" y="574524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Zeal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 flipH="1">
              <a:off x="7483320" y="5518080"/>
              <a:ext cx="3672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7165800" y="464040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9"/>
            <p:cNvSpPr/>
            <p:nvPr/>
          </p:nvSpPr>
          <p:spPr>
            <a:xfrm>
              <a:off x="4163760" y="4259160"/>
              <a:ext cx="549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ATLANT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0"/>
            <p:cNvSpPr/>
            <p:nvPr/>
          </p:nvSpPr>
          <p:spPr>
            <a:xfrm>
              <a:off x="3082680" y="448632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1"/>
            <p:cNvSpPr/>
            <p:nvPr/>
          </p:nvSpPr>
          <p:spPr>
            <a:xfrm>
              <a:off x="2992320" y="494496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2"/>
            <p:cNvSpPr/>
            <p:nvPr/>
          </p:nvSpPr>
          <p:spPr>
            <a:xfrm>
              <a:off x="1926720" y="49309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br>
                <a:rPr sz="600"/>
              </a:b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alápagos</a:t>
              </a:r>
              <a:br>
                <a:rPr sz="600"/>
              </a:b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sland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4053240" y="4992840"/>
              <a:ext cx="4611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836160" y="5916600"/>
              <a:ext cx="744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ierra del Fueg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5"/>
            <p:cNvSpPr/>
            <p:nvPr/>
          </p:nvSpPr>
          <p:spPr>
            <a:xfrm>
              <a:off x="4194000" y="5830920"/>
              <a:ext cx="0" cy="9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4442400" y="5775480"/>
              <a:ext cx="55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pe Ho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7"/>
            <p:cNvSpPr/>
            <p:nvPr/>
          </p:nvSpPr>
          <p:spPr>
            <a:xfrm>
              <a:off x="4784760" y="5405400"/>
              <a:ext cx="5724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pe of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ood Ho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8"/>
            <p:cNvSpPr/>
            <p:nvPr/>
          </p:nvSpPr>
          <p:spPr>
            <a:xfrm flipH="1">
              <a:off x="5151600" y="5481720"/>
              <a:ext cx="2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9"/>
            <p:cNvSpPr/>
            <p:nvPr/>
          </p:nvSpPr>
          <p:spPr>
            <a:xfrm>
              <a:off x="4273560" y="585144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0"/>
            <p:cNvSpPr/>
            <p:nvPr/>
          </p:nvSpPr>
          <p:spPr>
            <a:xfrm flipH="1" rot="16200000">
              <a:off x="3917160" y="5389560"/>
              <a:ext cx="433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538720" y="5078520"/>
              <a:ext cx="354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int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2454480" y="5281560"/>
              <a:ext cx="522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Marche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2946600" y="5202360"/>
              <a:ext cx="529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Genove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34"/>
            <p:cNvSpPr/>
            <p:nvPr/>
          </p:nvSpPr>
          <p:spPr>
            <a:xfrm>
              <a:off x="3071880" y="535932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qu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35"/>
            <p:cNvSpPr/>
            <p:nvPr/>
          </p:nvSpPr>
          <p:spPr>
            <a:xfrm>
              <a:off x="2488320" y="5416560"/>
              <a:ext cx="48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6"/>
            <p:cNvSpPr/>
            <p:nvPr/>
          </p:nvSpPr>
          <p:spPr>
            <a:xfrm>
              <a:off x="2188080" y="5803920"/>
              <a:ext cx="42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Isabel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7"/>
            <p:cNvSpPr/>
            <p:nvPr/>
          </p:nvSpPr>
          <p:spPr>
            <a:xfrm>
              <a:off x="1914840" y="5672160"/>
              <a:ext cx="56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ernandi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8"/>
            <p:cNvSpPr/>
            <p:nvPr/>
          </p:nvSpPr>
          <p:spPr>
            <a:xfrm>
              <a:off x="2555640" y="6114960"/>
              <a:ext cx="47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loren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9"/>
            <p:cNvSpPr/>
            <p:nvPr/>
          </p:nvSpPr>
          <p:spPr>
            <a:xfrm>
              <a:off x="2947320" y="6140520"/>
              <a:ext cx="499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spañol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0"/>
            <p:cNvSpPr/>
            <p:nvPr/>
          </p:nvSpPr>
          <p:spPr>
            <a:xfrm>
              <a:off x="3015360" y="5904000"/>
              <a:ext cx="4824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Cristob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2535480" y="5819760"/>
              <a:ext cx="380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ant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ru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2765520" y="5853240"/>
              <a:ext cx="380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ta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451960" y="562464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inzó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2858400" y="5505480"/>
              <a:ext cx="448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Daphne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Island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45"/>
            <p:cNvSpPr/>
            <p:nvPr/>
          </p:nvSpPr>
          <p:spPr>
            <a:xfrm flipV="1">
              <a:off x="2770200" y="5575320"/>
              <a:ext cx="16524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 flipH="1">
              <a:off x="2798640" y="5568840"/>
              <a:ext cx="136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2373480" y="620064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 mil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2182320" y="6062760"/>
              <a:ext cx="38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 k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49"/>
            <p:cNvSpPr/>
            <p:nvPr/>
          </p:nvSpPr>
          <p:spPr>
            <a:xfrm>
              <a:off x="1931760" y="6091200"/>
              <a:ext cx="24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0"/>
            <p:cNvSpPr/>
            <p:nvPr/>
          </p:nvSpPr>
          <p:spPr>
            <a:xfrm>
              <a:off x="1931760" y="6221520"/>
              <a:ext cx="24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53"/>
            <p:cNvSpPr/>
            <p:nvPr/>
          </p:nvSpPr>
          <p:spPr>
            <a:xfrm>
              <a:off x="882720" y="6153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ectangle 56"/>
          <p:cNvSpPr/>
          <p:nvPr/>
        </p:nvSpPr>
        <p:spPr>
          <a:xfrm>
            <a:off x="3629160" y="4842000"/>
            <a:ext cx="147600" cy="11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04920" y="685800"/>
            <a:ext cx="85341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’s experiences during the voyage of the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Beag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helped him frame his ideas on evol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es evolve as a result of their interactions with their environ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was influenced by Lyell’s Principles of Geology, in which he promoted the idea of continual, gradual, and consistent geological chang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coined the term, decent with modification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33480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unity among organisms related through descent from an ancestor that lived in the remote pas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33480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ver millions of years they accumulated diveses adaptations that allowed them to surviv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WAS DARWIN’S PHRASE FOR EVOLUTION? WHAT DOES IT MEA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ivity 13B: The Voyage of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eagle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arwin's Trip Around the World (13.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6858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2 Darwin proposed natural selection as the mechanism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1756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observed that organism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 more offspring than the environment can suppor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ary in many characteristics that can be inheri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reasoned that natur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ults in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favor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raits being represented more and more 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unfavor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ones less and less in ensuing generations of org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observed that species tend to produce excessive numbers of offspring, that the expression of traits varies among the individuals of a population, and that many of these traits are heritabl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75c01"/>
                </a:solidFill>
                <a:latin typeface="Century Schoolbook"/>
              </a:rPr>
              <a:t>WHAT DO OVERPRODUCTION OF OFFSPRING, AND HERITABLE VARIATIONS HAVE TO DO WITH ORGANISMS BECOMING ADAPTED TO THEIR ENVIRONMENT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2634840"/>
            <a:ext cx="746748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Every environment has a limited supply of resourc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Survival in a limited environment depends in part on the features the organisms inherit from their paren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Those with characteristics favored the environment went on to reprodu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Darwin referred to this process 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Natural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3427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found convincing evidence for his ideas in the results of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artifici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41400" indent="-5713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elective breeding of domesticated plants and animals (modifying specie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6"/>
          <p:cNvGrpSpPr/>
          <p:nvPr/>
        </p:nvGrpSpPr>
        <p:grpSpPr>
          <a:xfrm>
            <a:off x="420840" y="2773440"/>
            <a:ext cx="8299440" cy="3591000"/>
            <a:chOff x="420840" y="2773440"/>
            <a:chExt cx="8299440" cy="3591000"/>
          </a:xfrm>
        </p:grpSpPr>
        <p:pic>
          <p:nvPicPr>
            <p:cNvPr id="441" name="Picture 5" descr="_x001e_13_02aArtifSelectPlants_UP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20840" y="2773440"/>
              <a:ext cx="286236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11"/>
            <p:cNvSpPr/>
            <p:nvPr/>
          </p:nvSpPr>
          <p:spPr>
            <a:xfrm>
              <a:off x="1360800" y="60879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7" descr="_x001d_13_02BArtifSelectDogs_CNL.jpg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3821040" y="3008160"/>
              <a:ext cx="4899240" cy="31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8"/>
            <p:cNvSpPr/>
            <p:nvPr/>
          </p:nvSpPr>
          <p:spPr>
            <a:xfrm>
              <a:off x="5407200" y="5036760"/>
              <a:ext cx="176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undreds to thousand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years of breed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rtificial selectio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9"/>
            <p:cNvSpPr/>
            <p:nvPr/>
          </p:nvSpPr>
          <p:spPr>
            <a:xfrm>
              <a:off x="5508360" y="5727600"/>
              <a:ext cx="15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cestral dog (wolf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2"/>
            <p:cNvSpPr/>
            <p:nvPr/>
          </p:nvSpPr>
          <p:spPr>
            <a:xfrm>
              <a:off x="5780520" y="6076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241200"/>
            <a:ext cx="853416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proposed that living spec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descended from earlier life forms and that natural selection is the mechanism of evolu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6"/>
          <p:cNvGrpSpPr/>
          <p:nvPr/>
        </p:nvGrpSpPr>
        <p:grpSpPr>
          <a:xfrm>
            <a:off x="213120" y="3681360"/>
            <a:ext cx="6234840" cy="2886480"/>
            <a:chOff x="213120" y="3681360"/>
            <a:chExt cx="6234840" cy="2886480"/>
          </a:xfrm>
        </p:grpSpPr>
        <p:pic>
          <p:nvPicPr>
            <p:cNvPr id="450" name="Picture 34" descr="_x001d_13_02cCanineNatSelect_CNL.jpg                                  0050CFAB_x0003_203                            BE723100:"/>
            <p:cNvPicPr/>
            <p:nvPr/>
          </p:nvPicPr>
          <p:blipFill>
            <a:blip r:embed="rId1"/>
            <a:stretch/>
          </p:blipFill>
          <p:spPr>
            <a:xfrm>
              <a:off x="712080" y="3681360"/>
              <a:ext cx="573588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24"/>
            <p:cNvSpPr/>
            <p:nvPr/>
          </p:nvSpPr>
          <p:spPr>
            <a:xfrm>
              <a:off x="2969280" y="5539320"/>
              <a:ext cx="123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ousands to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llions of year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natural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5"/>
            <p:cNvSpPr/>
            <p:nvPr/>
          </p:nvSpPr>
          <p:spPr>
            <a:xfrm>
              <a:off x="3027960" y="6227640"/>
              <a:ext cx="111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cestral can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6"/>
            <p:cNvSpPr/>
            <p:nvPr/>
          </p:nvSpPr>
          <p:spPr>
            <a:xfrm>
              <a:off x="961560" y="5059800"/>
              <a:ext cx="107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frican wild d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7"/>
            <p:cNvSpPr/>
            <p:nvPr/>
          </p:nvSpPr>
          <p:spPr>
            <a:xfrm>
              <a:off x="2215800" y="505980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y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8"/>
            <p:cNvSpPr/>
            <p:nvPr/>
          </p:nvSpPr>
          <p:spPr>
            <a:xfrm>
              <a:off x="3370680" y="5067000"/>
              <a:ext cx="43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9"/>
            <p:cNvSpPr/>
            <p:nvPr/>
          </p:nvSpPr>
          <p:spPr>
            <a:xfrm>
              <a:off x="4426200" y="5069520"/>
              <a:ext cx="39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30"/>
            <p:cNvSpPr/>
            <p:nvPr/>
          </p:nvSpPr>
          <p:spPr>
            <a:xfrm>
              <a:off x="5396040" y="506340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ck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32"/>
            <p:cNvSpPr/>
            <p:nvPr/>
          </p:nvSpPr>
          <p:spPr>
            <a:xfrm>
              <a:off x="213120" y="6291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Picture 7" descr="_x001d_13_02BArtifSelectDogs_CNL.jpg                                  0050CFAB_x0003_203                            BE61E8D3:"/>
          <p:cNvPicPr/>
          <p:nvPr/>
        </p:nvPicPr>
        <p:blipFill>
          <a:blip r:embed="rId2"/>
          <a:stretch/>
        </p:blipFill>
        <p:spPr>
          <a:xfrm>
            <a:off x="4871880" y="1324080"/>
            <a:ext cx="3908520" cy="260028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4"/>
          <p:cNvSpPr/>
          <p:nvPr/>
        </p:nvSpPr>
        <p:spPr>
          <a:xfrm>
            <a:off x="376200" y="1647720"/>
            <a:ext cx="442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dreds to thousands of years of breeding (artificial se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estral dog (w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Straight Arrow Connector 16"/>
          <p:cNvCxnSpPr/>
          <p:nvPr/>
        </p:nvCxnSpPr>
        <p:spPr>
          <a:xfrm flipV="1">
            <a:off x="3741480" y="2164680"/>
            <a:ext cx="1130760" cy="1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62" name="Straight Arrow Connector 20"/>
          <p:cNvCxnSpPr/>
          <p:nvPr/>
        </p:nvCxnSpPr>
        <p:spPr>
          <a:xfrm>
            <a:off x="2382480" y="2947680"/>
            <a:ext cx="74700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WO IMPORTANT POINTS CAN BE DRAWN FROM DARWIN’S THEORY OF NATURAL SELECTION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Ancestral species gave rise to the diverse life forms by transfer of heritable traits to offspring that best promote reproduction. He called this </a:t>
            </a:r>
            <a:r>
              <a:rPr b="0" lang="en-US" sz="2400" spc="-1" strike="noStrike">
                <a:solidFill>
                  <a:srgbClr val="e75c01"/>
                </a:solidFill>
                <a:latin typeface="Century Schoolbook"/>
              </a:rPr>
              <a:t>“</a:t>
            </a:r>
            <a:r>
              <a:rPr b="1" i="1" lang="en-US" sz="2400" spc="-1" strike="noStrike">
                <a:solidFill>
                  <a:srgbClr val="e75c01"/>
                </a:solidFill>
                <a:latin typeface="Century Schoolbook"/>
              </a:rPr>
              <a:t>descent with modification</a:t>
            </a:r>
            <a:r>
              <a:rPr b="0" lang="en-US" sz="2400" spc="-1" strike="noStrike">
                <a:solidFill>
                  <a:srgbClr val="e75c01"/>
                </a:solidFill>
                <a:latin typeface="Century Schoolbook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Over vast amounts of time, the gradual accumulation of changes in the characteristics among the individuals in a population occu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32920" y="241200"/>
            <a:ext cx="8534520" cy="25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3 The study of fossils provides strong evidence for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44600" indent="-330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ssils and the fossil recor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17440" indent="-5587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rongly support the theory of evolu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6"/>
          <p:cNvGrpSpPr/>
          <p:nvPr/>
        </p:nvGrpSpPr>
        <p:grpSpPr>
          <a:xfrm>
            <a:off x="1534680" y="2370240"/>
            <a:ext cx="6838920" cy="4181040"/>
            <a:chOff x="1534680" y="2370240"/>
            <a:chExt cx="6838920" cy="4181040"/>
          </a:xfrm>
        </p:grpSpPr>
        <p:pic>
          <p:nvPicPr>
            <p:cNvPr id="468" name="Picture 12" descr="_x0013_13_03gIceMan_UP.jpg     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6383880" y="5076360"/>
              <a:ext cx="174096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6" descr="_x001d_13_03aHomoErectusSkull_UP.jpg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5055120" y="2370240"/>
              <a:ext cx="126792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7" descr="_x001a_13_03bPetrifiedTree_UP.jpg                                     0050CFAB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3408840" y="3199680"/>
              <a:ext cx="14558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8" descr="_x001a_13_03cAmmoniteCasts_UP.jpg                                     0050CFAB_x0003_203                            BE61E8D3:"/>
            <p:cNvPicPr/>
            <p:nvPr/>
          </p:nvPicPr>
          <p:blipFill>
            <a:blip r:embed="rId4"/>
            <a:stretch/>
          </p:blipFill>
          <p:spPr>
            <a:xfrm>
              <a:off x="4903920" y="3661920"/>
              <a:ext cx="185364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9" descr="_x001b_13_03dDinosaurTracks_UP.jpg                                    0050CFAB_x0003_203                            BE61E8D3:"/>
            <p:cNvPicPr/>
            <p:nvPr/>
          </p:nvPicPr>
          <p:blipFill>
            <a:blip r:embed="rId5"/>
            <a:stretch/>
          </p:blipFill>
          <p:spPr>
            <a:xfrm>
              <a:off x="6805440" y="3195360"/>
              <a:ext cx="1568160" cy="17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0" descr="_x001b_13_03eFossilizedLeaf_UP.jpg                                    0050CFAB_x0003_203                            BE61E8D3:"/>
            <p:cNvPicPr/>
            <p:nvPr/>
          </p:nvPicPr>
          <p:blipFill>
            <a:blip r:embed="rId6"/>
            <a:stretch/>
          </p:blipFill>
          <p:spPr>
            <a:xfrm>
              <a:off x="3343680" y="5059440"/>
              <a:ext cx="159228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11" descr="_x0018_13_03fInsectAmber_UP.jpg                                       0050CFAB_x0003_203                            BE61E8D3:"/>
            <p:cNvPicPr/>
            <p:nvPr/>
          </p:nvPicPr>
          <p:blipFill>
            <a:blip r:embed="rId7"/>
            <a:stretch/>
          </p:blipFill>
          <p:spPr>
            <a:xfrm rot="10828200">
              <a:off x="4924440" y="5063760"/>
              <a:ext cx="1367640" cy="11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13"/>
            <p:cNvSpPr/>
            <p:nvPr/>
          </p:nvSpPr>
          <p:spPr>
            <a:xfrm>
              <a:off x="5474160" y="3171600"/>
              <a:ext cx="84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Skull of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Homo</a:t>
              </a:r>
              <a:br>
                <a:rPr sz="700"/>
              </a:b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erect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62120" y="4827960"/>
              <a:ext cx="904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Dinosaur track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5348160" y="4823640"/>
              <a:ext cx="919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Ammonite cas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3738600" y="4823640"/>
              <a:ext cx="79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Petrified tre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7"/>
            <p:cNvSpPr/>
            <p:nvPr/>
          </p:nvSpPr>
          <p:spPr>
            <a:xfrm>
              <a:off x="3643560" y="59756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Fossilized organic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tter of a lea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9"/>
            <p:cNvSpPr/>
            <p:nvPr/>
          </p:nvSpPr>
          <p:spPr>
            <a:xfrm>
              <a:off x="6918120" y="6149160"/>
              <a:ext cx="66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“Ice Man”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1"/>
            <p:cNvSpPr/>
            <p:nvPr/>
          </p:nvSpPr>
          <p:spPr>
            <a:xfrm>
              <a:off x="1534680" y="6274800"/>
              <a:ext cx="130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A–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4"/>
            <p:cNvSpPr/>
            <p:nvPr/>
          </p:nvSpPr>
          <p:spPr>
            <a:xfrm>
              <a:off x="5168520" y="5922720"/>
              <a:ext cx="88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  Insect in amb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53880" y="153684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NOTHING IN BIOLOGY MAKES SENSE EXCEPT IN THE LIGHT OF EVOLUTION.”  T. DOBZHANS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238120" y="3921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3427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fossil recor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461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veals that organisms have evolved in a historical seque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8"/>
          <p:cNvGrpSpPr/>
          <p:nvPr/>
        </p:nvGrpSpPr>
        <p:grpSpPr>
          <a:xfrm>
            <a:off x="1659240" y="2266920"/>
            <a:ext cx="5533560" cy="4191120"/>
            <a:chOff x="1659240" y="2266920"/>
            <a:chExt cx="5533560" cy="4191120"/>
          </a:xfrm>
        </p:grpSpPr>
        <p:pic>
          <p:nvPicPr>
            <p:cNvPr id="486" name="Picture 23" descr="_x0017_13_03hRockStrata_UP.jpg 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95680" y="2266920"/>
              <a:ext cx="44971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26"/>
            <p:cNvSpPr/>
            <p:nvPr/>
          </p:nvSpPr>
          <p:spPr>
            <a:xfrm>
              <a:off x="1659240" y="6129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fossils link early extinct species with species living tod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7"/>
          <p:cNvGrpSpPr/>
          <p:nvPr/>
        </p:nvGrpSpPr>
        <p:grpSpPr>
          <a:xfrm>
            <a:off x="1051200" y="2143080"/>
            <a:ext cx="7040160" cy="4351320"/>
            <a:chOff x="1051200" y="2143080"/>
            <a:chExt cx="7040160" cy="4351320"/>
          </a:xfrm>
        </p:grpSpPr>
        <p:pic>
          <p:nvPicPr>
            <p:cNvPr id="491" name="Picture 14" descr="_x001a_13_03IExtinctWhale_CNL.jpg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049480" y="2143080"/>
              <a:ext cx="60418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15"/>
            <p:cNvSpPr/>
            <p:nvPr/>
          </p:nvSpPr>
          <p:spPr>
            <a:xfrm>
              <a:off x="1051200" y="6153120"/>
              <a:ext cx="103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Box 6"/>
          <p:cNvSpPr/>
          <p:nvPr/>
        </p:nvSpPr>
        <p:spPr>
          <a:xfrm>
            <a:off x="289080" y="139536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losaurus, an extinct whale whose hind legs link living whales with their land-dwelling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13.4 A MASS OF OTHER EVIDENCE REINFORCES THE EVOLUTIONARY VIEW OF LIFE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iogeograp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geography, the geographic distribution of spec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es at different geographical regions are similar to each ot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suggested to Darwin that organisms evolve from common ancesto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noted that Galápagos anima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embled species of the South American mainland more than animals on similar but distant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04920" y="685800"/>
            <a:ext cx="853416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arative anat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mparative anatom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comparison of body structures in different spec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tomical similarities between many species give signs of common dec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r example, all mammals have the same basic limb structu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Homolog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similarity in characteristics that result from common ancest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39440" indent="-3121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Homologous struc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features that often have </a:t>
            </a:r>
            <a:r>
              <a:rPr b="1" i="1" lang="en-US" sz="1800" spc="-1" strike="noStrike">
                <a:solidFill>
                  <a:srgbClr val="e75c01"/>
                </a:solidFill>
                <a:latin typeface="Century Schoolbook"/>
              </a:rPr>
              <a:t>different functions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ut are </a:t>
            </a:r>
            <a:r>
              <a:rPr b="1" i="1" lang="en-US" sz="1800" spc="-1" strike="noStrike">
                <a:solidFill>
                  <a:srgbClr val="e75c01"/>
                </a:solidFill>
                <a:latin typeface="Century Schoolbook"/>
              </a:rPr>
              <a:t>structurally similar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ecause of common ancest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volution is a remodeling process.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ac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9440" indent="-3121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Vestigial orga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gans that have no know function that are remains from ancesto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920880" y="2921040"/>
            <a:ext cx="6365880" cy="3367800"/>
            <a:chOff x="920880" y="2921040"/>
            <a:chExt cx="6365880" cy="3367800"/>
          </a:xfrm>
        </p:grpSpPr>
        <p:pic>
          <p:nvPicPr>
            <p:cNvPr id="502" name="Picture 15" descr="_x001f_13_04aHomologousForelimbs_U.jpg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2079720" y="2921040"/>
              <a:ext cx="520704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16"/>
            <p:cNvSpPr/>
            <p:nvPr/>
          </p:nvSpPr>
          <p:spPr>
            <a:xfrm>
              <a:off x="2132280" y="595152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7"/>
            <p:cNvSpPr/>
            <p:nvPr/>
          </p:nvSpPr>
          <p:spPr>
            <a:xfrm>
              <a:off x="3349800" y="594036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4763520" y="5940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6487920" y="594216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920880" y="60073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4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arative Embryolo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12880" indent="-330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embryology is the comparison of early stages of development among different organism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304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vertebra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587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ve common embryonic structu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Group 36"/>
          <p:cNvGrpSpPr/>
          <p:nvPr/>
        </p:nvGrpSpPr>
        <p:grpSpPr>
          <a:xfrm>
            <a:off x="615960" y="254160"/>
            <a:ext cx="8020080" cy="5707080"/>
            <a:chOff x="615960" y="254160"/>
            <a:chExt cx="8020080" cy="5707080"/>
          </a:xfrm>
        </p:grpSpPr>
        <p:sp>
          <p:nvSpPr>
            <p:cNvPr id="512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e8637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Picture 17" descr="_x001b_13_04bEmbryoHomology_UP.jpg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615960" y="2405160"/>
              <a:ext cx="7959600" cy="32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Line 18"/>
            <p:cNvSpPr/>
            <p:nvPr/>
          </p:nvSpPr>
          <p:spPr>
            <a:xfrm flipV="1">
              <a:off x="2128680" y="4908600"/>
              <a:ext cx="138456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9"/>
            <p:cNvSpPr/>
            <p:nvPr/>
          </p:nvSpPr>
          <p:spPr>
            <a:xfrm flipH="1">
              <a:off x="4403880" y="3917880"/>
              <a:ext cx="2388960" cy="1015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0"/>
            <p:cNvSpPr/>
            <p:nvPr/>
          </p:nvSpPr>
          <p:spPr>
            <a:xfrm>
              <a:off x="3491640" y="4768920"/>
              <a:ext cx="93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t-an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1"/>
            <p:cNvSpPr/>
            <p:nvPr/>
          </p:nvSpPr>
          <p:spPr>
            <a:xfrm>
              <a:off x="1996920" y="3208320"/>
              <a:ext cx="147348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23"/>
            <p:cNvSpPr/>
            <p:nvPr/>
          </p:nvSpPr>
          <p:spPr>
            <a:xfrm>
              <a:off x="3485520" y="335916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arynge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ch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 flipH="1">
              <a:off x="4537080" y="3309840"/>
              <a:ext cx="2124000" cy="192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 flipH="1">
              <a:off x="4557240" y="3422520"/>
              <a:ext cx="2325960" cy="8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6"/>
            <p:cNvSpPr/>
            <p:nvPr/>
          </p:nvSpPr>
          <p:spPr>
            <a:xfrm>
              <a:off x="709560" y="5475240"/>
              <a:ext cx="12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ck 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27"/>
            <p:cNvSpPr/>
            <p:nvPr/>
          </p:nvSpPr>
          <p:spPr>
            <a:xfrm>
              <a:off x="4793040" y="546876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uman 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28"/>
            <p:cNvSpPr/>
            <p:nvPr/>
          </p:nvSpPr>
          <p:spPr>
            <a:xfrm>
              <a:off x="3473640" y="56847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4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2071800" y="3041640"/>
              <a:ext cx="1401480" cy="43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3"/>
            <p:cNvSpPr/>
            <p:nvPr/>
          </p:nvSpPr>
          <p:spPr>
            <a:xfrm flipH="1">
              <a:off x="4537080" y="3305160"/>
              <a:ext cx="212400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 flipH="1">
              <a:off x="4552920" y="3417840"/>
              <a:ext cx="232560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5"/>
            <p:cNvSpPr/>
            <p:nvPr/>
          </p:nvSpPr>
          <p:spPr>
            <a:xfrm flipH="1">
              <a:off x="4412880" y="3913200"/>
              <a:ext cx="2389320" cy="10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Molecular Biolo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isons of DNA and amino acid sequences between different organism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veal evolutionary relationshi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16"/>
          <p:cNvGrpSpPr/>
          <p:nvPr/>
        </p:nvGrpSpPr>
        <p:grpSpPr>
          <a:xfrm>
            <a:off x="2419200" y="2238480"/>
            <a:ext cx="4559040" cy="4198320"/>
            <a:chOff x="2419200" y="2238480"/>
            <a:chExt cx="4559040" cy="4198320"/>
          </a:xfrm>
        </p:grpSpPr>
        <p:pic>
          <p:nvPicPr>
            <p:cNvPr id="531" name="Picture 12" descr="_x001a_13_04ProteinHomology_T.jpg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513240" y="2238480"/>
              <a:ext cx="3465000" cy="41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13"/>
            <p:cNvSpPr/>
            <p:nvPr/>
          </p:nvSpPr>
          <p:spPr>
            <a:xfrm>
              <a:off x="2419200" y="605916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3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5 Scientists can observe natural selection in a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mouflage adaptations that evolved in different environments are examples of the results of natural selec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1"/>
          <p:cNvGrpSpPr/>
          <p:nvPr/>
        </p:nvGrpSpPr>
        <p:grpSpPr>
          <a:xfrm>
            <a:off x="4721400" y="3892680"/>
            <a:ext cx="3278160" cy="2563920"/>
            <a:chOff x="4721400" y="3892680"/>
            <a:chExt cx="3278160" cy="2563920"/>
          </a:xfrm>
        </p:grpSpPr>
        <p:grpSp>
          <p:nvGrpSpPr>
            <p:cNvPr id="537" name="Group 5"/>
            <p:cNvGrpSpPr/>
            <p:nvPr/>
          </p:nvGrpSpPr>
          <p:grpSpPr>
            <a:xfrm>
              <a:off x="5749920" y="3892680"/>
              <a:ext cx="2249640" cy="2560680"/>
              <a:chOff x="5749920" y="3892680"/>
              <a:chExt cx="2249640" cy="2560680"/>
            </a:xfrm>
          </p:grpSpPr>
          <p:pic>
            <p:nvPicPr>
              <p:cNvPr id="538" name="Picture 6" descr="_x001e_13_05aCamouflageMimicry_UP.jpg                                 0050CFAB_x0003_203                            BE61E8D3:"/>
              <p:cNvPicPr/>
              <p:nvPr/>
            </p:nvPicPr>
            <p:blipFill>
              <a:blip r:embed="rId1"/>
              <a:stretch/>
            </p:blipFill>
            <p:spPr>
              <a:xfrm>
                <a:off x="5749920" y="3892680"/>
                <a:ext cx="2249640" cy="256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7"/>
              <p:cNvSpPr/>
              <p:nvPr/>
            </p:nvSpPr>
            <p:spPr>
              <a:xfrm>
                <a:off x="5819040" y="3993840"/>
                <a:ext cx="944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 flower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antid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 Malay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8"/>
              <p:cNvSpPr/>
              <p:nvPr/>
            </p:nvSpPr>
            <p:spPr>
              <a:xfrm>
                <a:off x="5819400" y="5159520"/>
                <a:ext cx="202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 leaf mantid in Costa R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Text Box 9"/>
            <p:cNvSpPr/>
            <p:nvPr/>
          </p:nvSpPr>
          <p:spPr>
            <a:xfrm>
              <a:off x="4721400" y="6180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5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181080"/>
            <a:ext cx="853416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ment of pesticide resistance in insec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nother example of natural selection in a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se two examples illustrate that natural selection is an editing process, not a creative mechanism. They also show that natural selection is regional, timely, and can occur rapidl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6"/>
          <p:cNvGrpSpPr/>
          <p:nvPr/>
        </p:nvGrpSpPr>
        <p:grpSpPr>
          <a:xfrm>
            <a:off x="1847880" y="2530440"/>
            <a:ext cx="5924520" cy="3735720"/>
            <a:chOff x="1847880" y="2530440"/>
            <a:chExt cx="5924520" cy="3735720"/>
          </a:xfrm>
        </p:grpSpPr>
        <p:pic>
          <p:nvPicPr>
            <p:cNvPr id="545" name="Picture 6" descr="_x001f_13_05bPesticidResistanc_CNL.jpg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632040" y="2530440"/>
              <a:ext cx="4140360" cy="36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 Box 7"/>
            <p:cNvSpPr/>
            <p:nvPr/>
          </p:nvSpPr>
          <p:spPr>
            <a:xfrm>
              <a:off x="6317640" y="4105080"/>
              <a:ext cx="132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sticide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8"/>
            <p:cNvSpPr/>
            <p:nvPr/>
          </p:nvSpPr>
          <p:spPr>
            <a:xfrm>
              <a:off x="5656320" y="478152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viv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9"/>
            <p:cNvSpPr/>
            <p:nvPr/>
          </p:nvSpPr>
          <p:spPr>
            <a:xfrm>
              <a:off x="3163320" y="3828960"/>
              <a:ext cx="1514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 with gen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erring resistanc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pestic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 flipH="1">
              <a:off x="3930120" y="3811680"/>
              <a:ext cx="210348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1"/>
            <p:cNvSpPr/>
            <p:nvPr/>
          </p:nvSpPr>
          <p:spPr>
            <a:xfrm>
              <a:off x="3165480" y="4924440"/>
              <a:ext cx="13680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itio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s of th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me pesticide wil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 less effective, an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frequency of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istant insects i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populatio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l gr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3801960" y="61387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4"/>
            <p:cNvSpPr/>
            <p:nvPr/>
          </p:nvSpPr>
          <p:spPr>
            <a:xfrm>
              <a:off x="1847880" y="59896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5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wn, Fool, or Simply Well Adapt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5480" indent="-3556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blue-footed boob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03240" indent="-5457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type of bird living in the Galápagos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_x001e_13_UN254BlueFootedBooby_UP.jpg                                 0050CFAB_x0003_203                            BE77EE71:"/>
          <p:cNvPicPr/>
          <p:nvPr/>
        </p:nvPicPr>
        <p:blipFill>
          <a:blip r:embed="rId1"/>
          <a:stretch/>
        </p:blipFill>
        <p:spPr>
          <a:xfrm>
            <a:off x="2733840" y="3403440"/>
            <a:ext cx="35892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 WHAT SENSE IS NATURAL SELECTION MORE OF AN EDITING PROCESS THAN A CREATIVE PROCES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4066920"/>
            <a:ext cx="746748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PULATION GENETICS AND THE MODERN SYNTHESI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359000"/>
            <a:ext cx="85341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6 Populations are the units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4507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group of individuals of the same species living in the same place at the same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4507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	</a:t>
            </a: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Species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s a group of popul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ose individuals can interbreed and produce fertile offspr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population is the smallest unit that can evol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increase of resistant insects in areas sprayed with pesticides is a good example of a population evolov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tural selection favored genes that were resista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62320" indent="-533520">
              <a:spcBef>
                <a:spcPts val="400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se insects left more offspr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62320" indent="-533520">
              <a:spcBef>
                <a:spcPts val="400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population changed or evolv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04920" y="685440"/>
            <a:ext cx="853416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genetics (1920’s) – combined the teachings of Darwin and Mend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udies how populations change genetically over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odern synthesis (1940’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nnects Darwin’s theory with population gene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.e. populations are the unit of evolu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ey Features of Populations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pulations may be isolated from others of the same species, with little interbreeding and thus little exchange of gen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lands, mountain rang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gene poo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total collection of genes in a population at any one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eles in all the individuals within a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roevol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change in the relative frequencies of alleles in a gene 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.e. alleles for pesticide resist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CAN’T AN INDIVIDUAL EVOLV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04920" y="685800"/>
            <a:ext cx="853416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7 The gene pool of a nonevolving population remains constant over the gener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nonevolving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huffling of alleles that accompanies sexual reproduction does not alter the genetic makeup of the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 matter how many times alleles are shuffled , the frequency of each allele is the gene pool remains the sam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1"/>
          <p:cNvGrpSpPr/>
          <p:nvPr/>
        </p:nvGrpSpPr>
        <p:grpSpPr>
          <a:xfrm>
            <a:off x="2854440" y="4029120"/>
            <a:ext cx="3456360" cy="2406960"/>
            <a:chOff x="2854440" y="4029120"/>
            <a:chExt cx="3456360" cy="2406960"/>
          </a:xfrm>
        </p:grpSpPr>
        <p:pic>
          <p:nvPicPr>
            <p:cNvPr id="567" name="Picture 41" descr="_x001d_13_07aImaginargyBoobies_U.jpg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01760" y="4029120"/>
              <a:ext cx="229212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42"/>
            <p:cNvSpPr/>
            <p:nvPr/>
          </p:nvSpPr>
          <p:spPr>
            <a:xfrm>
              <a:off x="4107600" y="615636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43"/>
            <p:cNvSpPr/>
            <p:nvPr/>
          </p:nvSpPr>
          <p:spPr>
            <a:xfrm>
              <a:off x="5322240" y="61563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web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47"/>
            <p:cNvGrpSpPr/>
            <p:nvPr/>
          </p:nvGrpSpPr>
          <p:grpSpPr>
            <a:xfrm>
              <a:off x="4478040" y="5680080"/>
              <a:ext cx="1583280" cy="495360"/>
              <a:chOff x="4478040" y="5680080"/>
              <a:chExt cx="1583280" cy="495360"/>
            </a:xfrm>
          </p:grpSpPr>
          <p:sp>
            <p:nvSpPr>
              <p:cNvPr id="571" name="Line 44"/>
              <p:cNvSpPr/>
              <p:nvPr/>
            </p:nvSpPr>
            <p:spPr>
              <a:xfrm flipH="1">
                <a:off x="4478040" y="5680080"/>
                <a:ext cx="288720" cy="49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5"/>
              <p:cNvSpPr/>
              <p:nvPr/>
            </p:nvSpPr>
            <p:spPr>
              <a:xfrm flipH="1">
                <a:off x="5788800" y="5746680"/>
                <a:ext cx="272520" cy="42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Text Box 49"/>
            <p:cNvSpPr/>
            <p:nvPr/>
          </p:nvSpPr>
          <p:spPr>
            <a:xfrm>
              <a:off x="2854440" y="61596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04920" y="685440"/>
            <a:ext cx="85341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rdy-Weinberg equilibrium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ates that the shuffling of genes during sexual reproduction does not alter the proportions of different alleles in a gene po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51"/>
          <p:cNvGrpSpPr/>
          <p:nvPr/>
        </p:nvGrpSpPr>
        <p:grpSpPr>
          <a:xfrm>
            <a:off x="1530720" y="2719440"/>
            <a:ext cx="6414840" cy="3706920"/>
            <a:chOff x="1530720" y="2719440"/>
            <a:chExt cx="6414840" cy="3706920"/>
          </a:xfrm>
        </p:grpSpPr>
        <p:pic>
          <p:nvPicPr>
            <p:cNvPr id="577" name="Picture 6" descr="_x0019_13_07bBoobyGenePool_U.jpg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33760" y="2719440"/>
              <a:ext cx="531180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7"/>
            <p:cNvSpPr/>
            <p:nvPr/>
          </p:nvSpPr>
          <p:spPr>
            <a:xfrm>
              <a:off x="2850120" y="310824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8"/>
            <p:cNvSpPr/>
            <p:nvPr/>
          </p:nvSpPr>
          <p:spPr>
            <a:xfrm>
              <a:off x="2847960" y="3681360"/>
              <a:ext cx="79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9"/>
            <p:cNvSpPr/>
            <p:nvPr/>
          </p:nvSpPr>
          <p:spPr>
            <a:xfrm>
              <a:off x="4621680" y="3681360"/>
              <a:ext cx="41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0"/>
            <p:cNvSpPr/>
            <p:nvPr/>
          </p:nvSpPr>
          <p:spPr>
            <a:xfrm>
              <a:off x="5748120" y="36813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1"/>
            <p:cNvSpPr/>
            <p:nvPr/>
          </p:nvSpPr>
          <p:spPr>
            <a:xfrm>
              <a:off x="6849000" y="368460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2"/>
            <p:cNvSpPr/>
            <p:nvPr/>
          </p:nvSpPr>
          <p:spPr>
            <a:xfrm>
              <a:off x="2852640" y="3987720"/>
              <a:ext cx="123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animal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tal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5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3"/>
            <p:cNvSpPr/>
            <p:nvPr/>
          </p:nvSpPr>
          <p:spPr>
            <a:xfrm>
              <a:off x="4563720" y="39877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4"/>
            <p:cNvSpPr/>
            <p:nvPr/>
          </p:nvSpPr>
          <p:spPr>
            <a:xfrm>
              <a:off x="5708520" y="39877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5"/>
            <p:cNvSpPr/>
            <p:nvPr/>
          </p:nvSpPr>
          <p:spPr>
            <a:xfrm>
              <a:off x="6848280" y="3987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4524480" y="45734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8"/>
            <p:cNvSpPr/>
            <p:nvPr/>
          </p:nvSpPr>
          <p:spPr>
            <a:xfrm>
              <a:off x="4434840" y="439272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9"/>
            <p:cNvSpPr/>
            <p:nvPr/>
          </p:nvSpPr>
          <p:spPr>
            <a:xfrm>
              <a:off x="2846520" y="442260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0"/>
            <p:cNvSpPr/>
            <p:nvPr/>
          </p:nvSpPr>
          <p:spPr>
            <a:xfrm>
              <a:off x="4691520" y="44323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>
              <a:off x="5683320" y="457200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3"/>
            <p:cNvSpPr/>
            <p:nvPr/>
          </p:nvSpPr>
          <p:spPr>
            <a:xfrm>
              <a:off x="5581800" y="4365720"/>
              <a:ext cx="41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4"/>
            <p:cNvSpPr/>
            <p:nvPr/>
          </p:nvSpPr>
          <p:spPr>
            <a:xfrm>
              <a:off x="5853600" y="4430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6"/>
            <p:cNvSpPr/>
            <p:nvPr/>
          </p:nvSpPr>
          <p:spPr>
            <a:xfrm>
              <a:off x="6823080" y="457200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7"/>
            <p:cNvSpPr/>
            <p:nvPr/>
          </p:nvSpPr>
          <p:spPr>
            <a:xfrm>
              <a:off x="6739200" y="4365720"/>
              <a:ext cx="41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28"/>
            <p:cNvSpPr/>
            <p:nvPr/>
          </p:nvSpPr>
          <p:spPr>
            <a:xfrm>
              <a:off x="7015320" y="4430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2851200" y="5000760"/>
              <a:ext cx="1162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allele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gene poo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tal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,0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30"/>
            <p:cNvSpPr/>
            <p:nvPr/>
          </p:nvSpPr>
          <p:spPr>
            <a:xfrm>
              <a:off x="2844000" y="5864400"/>
              <a:ext cx="117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el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31"/>
            <p:cNvSpPr/>
            <p:nvPr/>
          </p:nvSpPr>
          <p:spPr>
            <a:xfrm>
              <a:off x="4743360" y="60008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4634280" y="5821200"/>
              <a:ext cx="4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>
              <a:off x="4948200" y="5859360"/>
              <a:ext cx="64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6"/>
            <p:cNvSpPr/>
            <p:nvPr/>
          </p:nvSpPr>
          <p:spPr>
            <a:xfrm>
              <a:off x="6501600" y="585936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7"/>
            <p:cNvSpPr/>
            <p:nvPr/>
          </p:nvSpPr>
          <p:spPr>
            <a:xfrm>
              <a:off x="4496400" y="501660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4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38"/>
            <p:cNvSpPr/>
            <p:nvPr/>
          </p:nvSpPr>
          <p:spPr>
            <a:xfrm>
              <a:off x="5392800" y="501804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39"/>
            <p:cNvSpPr/>
            <p:nvPr/>
          </p:nvSpPr>
          <p:spPr>
            <a:xfrm>
              <a:off x="6811920" y="50259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0"/>
            <p:cNvSpPr/>
            <p:nvPr/>
          </p:nvSpPr>
          <p:spPr>
            <a:xfrm rot="5400000">
              <a:off x="5889600" y="4671720"/>
              <a:ext cx="100080" cy="640080"/>
            </a:xfrm>
            <a:custGeom>
              <a:avLst/>
              <a:gdLst>
                <a:gd name="textAreaLeft" fmla="*/ 64080 w 100080"/>
                <a:gd name="textAreaRight" fmla="*/ 100440 w 100080"/>
                <a:gd name="textAreaTop" fmla="*/ 16560 h 640080"/>
                <a:gd name="textAreaBottom" fmla="*/ 623520 h 64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46"/>
            <p:cNvSpPr/>
            <p:nvPr/>
          </p:nvSpPr>
          <p:spPr>
            <a:xfrm>
              <a:off x="1530720" y="60912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5"/>
            <p:cNvSpPr/>
            <p:nvPr/>
          </p:nvSpPr>
          <p:spPr>
            <a:xfrm>
              <a:off x="6161400" y="5827680"/>
              <a:ext cx="4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>
              <a:off x="6256440" y="6008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Box 37"/>
          <p:cNvSpPr/>
          <p:nvPr/>
        </p:nvSpPr>
        <p:spPr>
          <a:xfrm>
            <a:off x="157320" y="2670120"/>
            <a:ext cx="2585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make up of the original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genotype frequency we can calculate the frequency of each allele in this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3312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e can follow alleles in a 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96040" indent="-5277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observe if Hardy-Weinberg equilibrium exis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96040" indent="-527760"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+ 2pq +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= allows us to determine the frequency of genotypes in a gene po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3"/>
          <p:cNvGrpSpPr/>
          <p:nvPr/>
        </p:nvGrpSpPr>
        <p:grpSpPr>
          <a:xfrm>
            <a:off x="1546560" y="2301840"/>
            <a:ext cx="5843160" cy="4132440"/>
            <a:chOff x="1546560" y="2301840"/>
            <a:chExt cx="5843160" cy="4132440"/>
          </a:xfrm>
        </p:grpSpPr>
        <p:pic>
          <p:nvPicPr>
            <p:cNvPr id="614" name="Picture 8" descr="_x001c_13_07cNewBoobyGenePool_U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17920" y="2301840"/>
              <a:ext cx="4771800" cy="41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9"/>
            <p:cNvSpPr/>
            <p:nvPr/>
          </p:nvSpPr>
          <p:spPr>
            <a:xfrm>
              <a:off x="2823480" y="2517840"/>
              <a:ext cx="1169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mbinatio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alleles from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gen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0"/>
            <p:cNvSpPr/>
            <p:nvPr/>
          </p:nvSpPr>
          <p:spPr>
            <a:xfrm>
              <a:off x="3635280" y="41227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2816280" y="563580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>
              <a:off x="2823480" y="5945040"/>
              <a:ext cx="117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el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3"/>
            <p:cNvSpPr/>
            <p:nvPr/>
          </p:nvSpPr>
          <p:spPr>
            <a:xfrm>
              <a:off x="4493880" y="5635800"/>
              <a:ext cx="69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4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4"/>
            <p:cNvSpPr/>
            <p:nvPr/>
          </p:nvSpPr>
          <p:spPr>
            <a:xfrm>
              <a:off x="5298120" y="56358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5"/>
            <p:cNvSpPr/>
            <p:nvPr/>
          </p:nvSpPr>
          <p:spPr>
            <a:xfrm>
              <a:off x="6093000" y="5624640"/>
              <a:ext cx="64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6"/>
            <p:cNvSpPr/>
            <p:nvPr/>
          </p:nvSpPr>
          <p:spPr>
            <a:xfrm>
              <a:off x="4935960" y="595008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7"/>
            <p:cNvSpPr/>
            <p:nvPr/>
          </p:nvSpPr>
          <p:spPr>
            <a:xfrm>
              <a:off x="5850000" y="594216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8"/>
            <p:cNvSpPr/>
            <p:nvPr/>
          </p:nvSpPr>
          <p:spPr>
            <a:xfrm>
              <a:off x="2824200" y="5378400"/>
              <a:ext cx="118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xt generatio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9"/>
            <p:cNvSpPr/>
            <p:nvPr/>
          </p:nvSpPr>
          <p:spPr>
            <a:xfrm>
              <a:off x="4070520" y="3629160"/>
              <a:ext cx="59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0"/>
            <p:cNvSpPr/>
            <p:nvPr/>
          </p:nvSpPr>
          <p:spPr>
            <a:xfrm>
              <a:off x="4073760" y="4572000"/>
              <a:ext cx="59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1"/>
            <p:cNvSpPr/>
            <p:nvPr/>
          </p:nvSpPr>
          <p:spPr>
            <a:xfrm>
              <a:off x="4958640" y="2919240"/>
              <a:ext cx="68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"/>
            <p:cNvSpPr/>
            <p:nvPr/>
          </p:nvSpPr>
          <p:spPr>
            <a:xfrm>
              <a:off x="5860080" y="2927520"/>
              <a:ext cx="659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3"/>
            <p:cNvSpPr/>
            <p:nvPr/>
          </p:nvSpPr>
          <p:spPr>
            <a:xfrm>
              <a:off x="5430600" y="273528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4"/>
            <p:cNvSpPr/>
            <p:nvPr/>
          </p:nvSpPr>
          <p:spPr>
            <a:xfrm>
              <a:off x="4866840" y="3301920"/>
              <a:ext cx="70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5"/>
            <p:cNvSpPr/>
            <p:nvPr/>
          </p:nvSpPr>
          <p:spPr>
            <a:xfrm>
              <a:off x="5796000" y="3290760"/>
              <a:ext cx="73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6"/>
            <p:cNvSpPr/>
            <p:nvPr/>
          </p:nvSpPr>
          <p:spPr>
            <a:xfrm>
              <a:off x="4851360" y="4251240"/>
              <a:ext cx="73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7"/>
            <p:cNvSpPr/>
            <p:nvPr/>
          </p:nvSpPr>
          <p:spPr>
            <a:xfrm>
              <a:off x="5809680" y="4238640"/>
              <a:ext cx="70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31"/>
            <p:cNvSpPr/>
            <p:nvPr/>
          </p:nvSpPr>
          <p:spPr>
            <a:xfrm>
              <a:off x="1546560" y="6130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4920" y="6858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a population to be in Hardy-Weinberg equilibrium, it must satisfy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five main condi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population is very lar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population is isola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utations do not alter the gene 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ting is rando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 individuals are equal in reproductive succ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se 5 conditions are rarely met. In many populations the rate of evolution is so slow that the population appears close to equilibrium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09320" y="15876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eshman Biology Skip to 13.9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lide 4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04920" y="685440"/>
            <a:ext cx="847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type of bird possesses many specialized characteristics, called evolutionary adapt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volutionary adaptations are inherited traits that enhance its ability to survive and reproduce in its particular environ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4" descr="_x001e_13_UN255BlueFootedBooby_UP.jpg                                 0050CFAB_x0003_203                            BE77EE71:"/>
          <p:cNvPicPr/>
          <p:nvPr/>
        </p:nvPicPr>
        <p:blipFill>
          <a:blip r:embed="rId1"/>
          <a:stretch/>
        </p:blipFill>
        <p:spPr>
          <a:xfrm>
            <a:off x="3551400" y="3162240"/>
            <a:ext cx="20062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8 The Hardy-Weinberg equation is useful in public health scie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ublic health scientists use the Hardy-Weinberg equ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estimate frequencies of disease-causing alleles in the human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04920" y="6858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9 In addition to natural selection, genetic drift and gene flow can contribute to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tic drif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change in the gene pool of a population due to ch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maller the population the more likely genetic drift will occu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tic drift tend to reduce genetic variation through the loss in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377280" indent="-2811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tic drif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cause the bottleneck effect or the founder effec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ottleneck  effect is an event that drastically reduces the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nder effect  caused by the colonization of new locations by smaller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50920" indent="-44784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maller the group the less likely the genetic makeup will represent the population they lef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4"/>
          <p:cNvGrpSpPr/>
          <p:nvPr/>
        </p:nvGrpSpPr>
        <p:grpSpPr>
          <a:xfrm>
            <a:off x="490680" y="3033720"/>
            <a:ext cx="8474040" cy="3606840"/>
            <a:chOff x="490680" y="3033720"/>
            <a:chExt cx="8474040" cy="3606840"/>
          </a:xfrm>
        </p:grpSpPr>
        <p:pic>
          <p:nvPicPr>
            <p:cNvPr id="647" name="Picture 5" descr="_x001c_13_09aBottleneckEffect_U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90680" y="3033720"/>
              <a:ext cx="4341600" cy="32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6"/>
            <p:cNvSpPr/>
            <p:nvPr/>
          </p:nvSpPr>
          <p:spPr>
            <a:xfrm>
              <a:off x="582840" y="59576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7"/>
            <p:cNvSpPr/>
            <p:nvPr/>
          </p:nvSpPr>
          <p:spPr>
            <a:xfrm>
              <a:off x="2070000" y="5957640"/>
              <a:ext cx="93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ttlenecking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3592800" y="59576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viving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1" name="Picture 9" descr="_x001a_13_09bElephantSeals_UP.jpg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4722840" y="3393720"/>
              <a:ext cx="424188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11"/>
            <p:cNvSpPr/>
            <p:nvPr/>
          </p:nvSpPr>
          <p:spPr>
            <a:xfrm>
              <a:off x="1657800" y="63640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9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2"/>
            <p:cNvSpPr/>
            <p:nvPr/>
          </p:nvSpPr>
          <p:spPr>
            <a:xfrm>
              <a:off x="6267600" y="6354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9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 flo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movement of individuals or gametes (pollen grains) between popul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 flow tends to reduce differences between popul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atural selec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eads to differential reproductive succes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THREE CAUSES OF MICROEVOLUTION.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ICH ONE WILL ADAPT A POPULATION TO ITS ENVIRONMEN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6840" y="2828520"/>
            <a:ext cx="746748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0 Endangered species often have reduced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5480" indent="-3427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ow genetic variabilit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587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duce the capacity of endangered species to survive as humans continue to alter the environ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_x0013_13_10Cheetah_UP.jpg                                            0050CFAB_x0003_203                            BE61E8D3:"/>
          <p:cNvPicPr/>
          <p:nvPr/>
        </p:nvPicPr>
        <p:blipFill>
          <a:blip r:embed="rId1"/>
          <a:stretch/>
        </p:blipFill>
        <p:spPr>
          <a:xfrm>
            <a:off x="3073320" y="3989520"/>
            <a:ext cx="4527720" cy="24494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1990440" y="61261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3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kip to 13.18 Natural Selection cannot fashion perfect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lide 5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ARIATION AND NATURAL SE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1 Variation is extensive in most popul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populations exhibit polymorphis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ifferent forms of phenotypic characteristic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7"/>
          <p:cNvGrpSpPr/>
          <p:nvPr/>
        </p:nvGrpSpPr>
        <p:grpSpPr>
          <a:xfrm>
            <a:off x="1247400" y="3071880"/>
            <a:ext cx="7028280" cy="3430440"/>
            <a:chOff x="1247400" y="3071880"/>
            <a:chExt cx="7028280" cy="3430440"/>
          </a:xfrm>
        </p:grpSpPr>
        <p:pic>
          <p:nvPicPr>
            <p:cNvPr id="671" name="Picture 5" descr="_x0018_13_11Polymorphism_UP.jpg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303640" y="3071880"/>
              <a:ext cx="5972040" cy="34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6"/>
            <p:cNvSpPr/>
            <p:nvPr/>
          </p:nvSpPr>
          <p:spPr>
            <a:xfrm>
              <a:off x="1247400" y="61009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s may also exhibit geographic var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ariation of an inherited characteristic along a geographic continu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0480" y="-36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WHAT ARE SOME OF THE CHARACTERISTICS THAT SHOW EVOLUTIONARY ADAPTATIONS FOR THE BLUE FOOTED BOOBY?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888920"/>
            <a:ext cx="74674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lue-footed booby h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ormous webbed fee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oil producing gland that keeps the booby afloa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nostril that can close under water that prevents water from entering the lung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gland that secrets salt from consumed sea wa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 a torpedo-lik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l adaptations that make life on the sea feasibl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2 Mutation and sexual recombination generate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tations, or changes in the nucleotide sequence of D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create new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xual recombin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rates variation by shuffling alleles during meiosi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31"/>
          <p:cNvGrpSpPr/>
          <p:nvPr/>
        </p:nvGrpSpPr>
        <p:grpSpPr>
          <a:xfrm>
            <a:off x="2052360" y="2470320"/>
            <a:ext cx="4977000" cy="3816360"/>
            <a:chOff x="2052360" y="2470320"/>
            <a:chExt cx="4977000" cy="3816360"/>
          </a:xfrm>
        </p:grpSpPr>
        <p:pic>
          <p:nvPicPr>
            <p:cNvPr id="680" name="Picture 5" descr="_x001e_13_12SexualRecombination_U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67280" y="2470320"/>
              <a:ext cx="29620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 Box 6"/>
            <p:cNvSpPr/>
            <p:nvPr/>
          </p:nvSpPr>
          <p:spPr>
            <a:xfrm>
              <a:off x="4381200" y="28018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7"/>
            <p:cNvSpPr/>
            <p:nvPr/>
          </p:nvSpPr>
          <p:spPr>
            <a:xfrm>
              <a:off x="5717880" y="2814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8"/>
            <p:cNvSpPr/>
            <p:nvPr/>
          </p:nvSpPr>
          <p:spPr>
            <a:xfrm>
              <a:off x="4854240" y="28018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9"/>
            <p:cNvSpPr/>
            <p:nvPr/>
          </p:nvSpPr>
          <p:spPr>
            <a:xfrm>
              <a:off x="6181560" y="2814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0"/>
            <p:cNvSpPr/>
            <p:nvPr/>
          </p:nvSpPr>
          <p:spPr>
            <a:xfrm>
              <a:off x="4243320" y="422100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1"/>
            <p:cNvSpPr/>
            <p:nvPr/>
          </p:nvSpPr>
          <p:spPr>
            <a:xfrm>
              <a:off x="4379760" y="55609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2"/>
            <p:cNvSpPr/>
            <p:nvPr/>
          </p:nvSpPr>
          <p:spPr>
            <a:xfrm>
              <a:off x="5286240" y="42181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3"/>
            <p:cNvSpPr/>
            <p:nvPr/>
          </p:nvSpPr>
          <p:spPr>
            <a:xfrm>
              <a:off x="6541920" y="422100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4"/>
            <p:cNvSpPr/>
            <p:nvPr/>
          </p:nvSpPr>
          <p:spPr>
            <a:xfrm>
              <a:off x="4867200" y="55483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5"/>
            <p:cNvSpPr/>
            <p:nvPr/>
          </p:nvSpPr>
          <p:spPr>
            <a:xfrm>
              <a:off x="5802120" y="5586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6"/>
            <p:cNvSpPr/>
            <p:nvPr/>
          </p:nvSpPr>
          <p:spPr>
            <a:xfrm>
              <a:off x="6289560" y="5586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7"/>
            <p:cNvSpPr/>
            <p:nvPr/>
          </p:nvSpPr>
          <p:spPr>
            <a:xfrm>
              <a:off x="5232240" y="5823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8"/>
            <p:cNvSpPr/>
            <p:nvPr/>
          </p:nvSpPr>
          <p:spPr>
            <a:xfrm>
              <a:off x="5257440" y="2860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9"/>
            <p:cNvSpPr/>
            <p:nvPr/>
          </p:nvSpPr>
          <p:spPr>
            <a:xfrm>
              <a:off x="3258720" y="284472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0"/>
            <p:cNvSpPr/>
            <p:nvPr/>
          </p:nvSpPr>
          <p:spPr>
            <a:xfrm>
              <a:off x="3260160" y="345456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io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1"/>
            <p:cNvSpPr/>
            <p:nvPr/>
          </p:nvSpPr>
          <p:spPr>
            <a:xfrm>
              <a:off x="3258720" y="42609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2"/>
            <p:cNvSpPr/>
            <p:nvPr/>
          </p:nvSpPr>
          <p:spPr>
            <a:xfrm>
              <a:off x="3255840" y="5033880"/>
              <a:ext cx="82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rtil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3"/>
            <p:cNvSpPr/>
            <p:nvPr/>
          </p:nvSpPr>
          <p:spPr>
            <a:xfrm>
              <a:off x="3254760" y="5575320"/>
              <a:ext cx="9244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spring,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new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alle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8"/>
            <p:cNvSpPr/>
            <p:nvPr/>
          </p:nvSpPr>
          <p:spPr>
            <a:xfrm>
              <a:off x="2052360" y="599904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11" descr="_x0018_13_13Tuberculosis_UP.jpg                                       0050CFAB_x0003_203                            BE723100:"/>
          <p:cNvPicPr/>
          <p:nvPr/>
        </p:nvPicPr>
        <p:blipFill>
          <a:blip r:embed="rId1"/>
          <a:stretch/>
        </p:blipFill>
        <p:spPr>
          <a:xfrm>
            <a:off x="5191200" y="3606840"/>
            <a:ext cx="2787480" cy="255276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3 The evolution of antibiotic resistance in bacteria is a serious public health conce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xcessive use of antibiotic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leading to the evolution of antibiotic-resistant bacte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"/>
          <p:cNvSpPr/>
          <p:nvPr/>
        </p:nvSpPr>
        <p:spPr>
          <a:xfrm flipH="1" rot="16200000">
            <a:off x="7177680" y="4974480"/>
            <a:ext cx="100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ized SEM 5,600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4479480" y="62071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04920" y="685440"/>
            <a:ext cx="8534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4 Diploidy and balancing selection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ploidy preserves vari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y “hiding” recessive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alanced polymorphis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sult from the heterozygote advantage or frequency-dependent sele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ome variations may be neutr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viding no apparent advantage or disadvanta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7"/>
          <p:cNvGrpSpPr/>
          <p:nvPr/>
        </p:nvGrpSpPr>
        <p:grpSpPr>
          <a:xfrm>
            <a:off x="428760" y="3013200"/>
            <a:ext cx="8234280" cy="3170520"/>
            <a:chOff x="428760" y="3013200"/>
            <a:chExt cx="8234280" cy="3170520"/>
          </a:xfrm>
        </p:grpSpPr>
        <p:pic>
          <p:nvPicPr>
            <p:cNvPr id="711" name="Picture 4" descr="_x001c_13_14NeutralVariation_UP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28760" y="3013200"/>
              <a:ext cx="8234280" cy="30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5"/>
            <p:cNvSpPr/>
            <p:nvPr/>
          </p:nvSpPr>
          <p:spPr>
            <a:xfrm>
              <a:off x="3793680" y="590724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5 The perpetuation of genes defines evolutionary fit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individual’s fitn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contribution it makes to the gene pool of the next gener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04920" y="685800"/>
            <a:ext cx="853416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3.16 Natural selection can alter variation in a population in three way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abilizing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avors intermediate phenotyp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rectional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cts against individuals at one of the phenotypic extrem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sruptive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avors individuals at both extremes of the phenotypic rang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ree possible effects of natur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9"/>
          <p:cNvGrpSpPr/>
          <p:nvPr/>
        </p:nvGrpSpPr>
        <p:grpSpPr>
          <a:xfrm>
            <a:off x="514080" y="1338120"/>
            <a:ext cx="8091720" cy="5139000"/>
            <a:chOff x="514080" y="1338120"/>
            <a:chExt cx="8091720" cy="5139000"/>
          </a:xfrm>
        </p:grpSpPr>
        <p:pic>
          <p:nvPicPr>
            <p:cNvPr id="720" name="Picture 5" descr="_x001f_13_16NaturalSelectModes_3_U.jpg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1295280" y="1338120"/>
              <a:ext cx="7310520" cy="49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6"/>
            <p:cNvSpPr/>
            <p:nvPr/>
          </p:nvSpPr>
          <p:spPr>
            <a:xfrm>
              <a:off x="5261040" y="151920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7"/>
            <p:cNvSpPr/>
            <p:nvPr/>
          </p:nvSpPr>
          <p:spPr>
            <a:xfrm flipV="1">
              <a:off x="5138640" y="1654200"/>
              <a:ext cx="17316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8"/>
            <p:cNvSpPr/>
            <p:nvPr/>
          </p:nvSpPr>
          <p:spPr>
            <a:xfrm>
              <a:off x="1802520" y="6219720"/>
              <a:ext cx="139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bilizing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9"/>
            <p:cNvSpPr/>
            <p:nvPr/>
          </p:nvSpPr>
          <p:spPr>
            <a:xfrm>
              <a:off x="1319400" y="34592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 flipH="1" flipV="1">
              <a:off x="1893960" y="3836880"/>
              <a:ext cx="35568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1"/>
            <p:cNvSpPr/>
            <p:nvPr/>
          </p:nvSpPr>
          <p:spPr>
            <a:xfrm>
              <a:off x="2594160" y="346248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ve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2"/>
            <p:cNvSpPr/>
            <p:nvPr/>
          </p:nvSpPr>
          <p:spPr>
            <a:xfrm flipV="1">
              <a:off x="2600280" y="3860640"/>
              <a:ext cx="297000" cy="6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3"/>
            <p:cNvSpPr/>
            <p:nvPr/>
          </p:nvSpPr>
          <p:spPr>
            <a:xfrm rot="16200000">
              <a:off x="3064320" y="2179080"/>
              <a:ext cx="144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requency of individu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4"/>
            <p:cNvSpPr/>
            <p:nvPr/>
          </p:nvSpPr>
          <p:spPr>
            <a:xfrm>
              <a:off x="4300920" y="3435480"/>
              <a:ext cx="142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otypes (fur colo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5"/>
            <p:cNvSpPr/>
            <p:nvPr/>
          </p:nvSpPr>
          <p:spPr>
            <a:xfrm>
              <a:off x="4321080" y="623088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ional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6"/>
            <p:cNvSpPr/>
            <p:nvPr/>
          </p:nvSpPr>
          <p:spPr>
            <a:xfrm>
              <a:off x="6751440" y="622764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ruptive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7"/>
            <p:cNvSpPr/>
            <p:nvPr/>
          </p:nvSpPr>
          <p:spPr>
            <a:xfrm>
              <a:off x="514080" y="617688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7 Sexual selection may produce sexual dimorph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xual selection leads to the evolution of secondary sexual characterist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ich may give individuals an advantage in mat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9"/>
          <p:cNvGrpSpPr/>
          <p:nvPr/>
        </p:nvGrpSpPr>
        <p:grpSpPr>
          <a:xfrm>
            <a:off x="1928880" y="3981600"/>
            <a:ext cx="3247920" cy="2441520"/>
            <a:chOff x="1928880" y="3981600"/>
            <a:chExt cx="3247920" cy="2441520"/>
          </a:xfrm>
        </p:grpSpPr>
        <p:pic>
          <p:nvPicPr>
            <p:cNvPr id="736" name="Picture 4" descr="_x001e_13_17aIntrasexualSelect_UP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1928880" y="3981600"/>
              <a:ext cx="3247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 Box 6"/>
            <p:cNvSpPr/>
            <p:nvPr/>
          </p:nvSpPr>
          <p:spPr>
            <a:xfrm>
              <a:off x="2795040" y="61466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8"/>
          <p:cNvGrpSpPr/>
          <p:nvPr/>
        </p:nvGrpSpPr>
        <p:grpSpPr>
          <a:xfrm>
            <a:off x="5710320" y="3578400"/>
            <a:ext cx="1566720" cy="2836800"/>
            <a:chOff x="5710320" y="3578400"/>
            <a:chExt cx="1566720" cy="2836800"/>
          </a:xfrm>
        </p:grpSpPr>
        <p:pic>
          <p:nvPicPr>
            <p:cNvPr id="739" name="Picture 5" descr="_x0014_13_17bPeacock_UP.jpg      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5710320" y="3578400"/>
              <a:ext cx="15667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7"/>
            <p:cNvSpPr/>
            <p:nvPr/>
          </p:nvSpPr>
          <p:spPr>
            <a:xfrm>
              <a:off x="5906880" y="6138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04920" y="685800"/>
            <a:ext cx="853416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8 Natural selection cannot fashion perfect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re are at least four reasons why natural selection cannot produce perf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ganisms are limited by historical constrain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daptations are often compromi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nce and natural selection interac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lection can only edit existing vari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look at any organism critically, you are first struck by the differences from other organism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rther observations often reveals that an organism’s features show some relationship to where the organism lives and what it does in its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RWIN’S THEORY OF 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 A sea voyage helped Darwin frame his theory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30480">
              <a:spcBef>
                <a:spcPts val="788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 his visit to the Galápagos Islands: </a:t>
            </a:r>
            <a:r>
              <a:rPr b="0" lang="en-U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(VIDE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33520">
              <a:spcBef>
                <a:spcPts val="67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rles Darwin observed many unique org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33520">
              <a:spcBef>
                <a:spcPts val="67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Igua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2279520" y="3394080"/>
            <a:ext cx="5597640" cy="3035160"/>
            <a:chOff x="2279520" y="3394080"/>
            <a:chExt cx="5597640" cy="3035160"/>
          </a:xfrm>
        </p:grpSpPr>
        <p:pic>
          <p:nvPicPr>
            <p:cNvPr id="370" name="Picture 31" descr="_x0019_13_01aMarineIguana_UP.jpg                                      0050CFAB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3336840" y="3394080"/>
              <a:ext cx="454032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32"/>
            <p:cNvSpPr/>
            <p:nvPr/>
          </p:nvSpPr>
          <p:spPr>
            <a:xfrm>
              <a:off x="2279520" y="61275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7"/>
          <p:cNvSpPr/>
          <p:nvPr/>
        </p:nvSpPr>
        <p:spPr>
          <a:xfrm>
            <a:off x="204840" y="3357720"/>
            <a:ext cx="255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Arial"/>
              </a:rPr>
              <a:t>Note: Special structures or behaviors help the organism survive and reproduce in a </a:t>
            </a:r>
            <a:r>
              <a:rPr b="0" i="1" lang="en-US" sz="2400" spc="-1" strike="noStrike" u="sng">
                <a:solidFill>
                  <a:srgbClr val="e75c01"/>
                </a:solidFill>
                <a:uFillTx/>
                <a:latin typeface="Arial"/>
              </a:rPr>
              <a:t>particular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2240" y="274320"/>
            <a:ext cx="85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LIVING SPECIES HAVE ARISEN FROM EARLIER LIFE FORMS AND THAT SPECIES CHANGE OVER TIME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’s main ideas can be traced back to the ancient Gree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ximander (about 2,500 years ago) suggested that life arose in water and that simpler forms preceded more complex forms of lif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istotle believed that species were fixed and did not evolv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Judeo-Christian tradition that all species were created in a single act of creation about 6,000 years ag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04920" y="685800"/>
            <a:ext cx="8534160" cy="57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century prior to Darwi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5c01"/>
                </a:solidFill>
                <a:uFillTx/>
                <a:latin typeface="Century Schoolbook"/>
              </a:rPr>
              <a:t>Buff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(mid-1700s) suggested that Earth was much older than 6,000 years,  and raised the possibility that different species arose from common ancestors, although he later argued against this poi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tudy of fossils suggested that life forms chan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e75c01"/>
                </a:solidFill>
                <a:uFillTx/>
                <a:latin typeface="Century Schoolbook"/>
              </a:rPr>
              <a:t>Lamarc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(early 1800s) was the first to strongly support the idea of evolution, but he believed the mechanism for change was the inheritance of acquired characteristic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e proposed that by using or not using its body parts, an individual may develop certain traits that are passed on to its offspr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4-02T23:11:35Z</cp:lastPrinted>
  <dcterms:modified xsi:type="dcterms:W3CDTF">2010-02-22T00:57:59Z</dcterms:modified>
  <cp:revision>599</cp:revision>
  <dc:subject/>
  <dc:title>Slide 1</dc:title>
</cp:coreProperties>
</file>